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D94F-687C-4D71-86D9-21C79065D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8420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7F02-E60F-4CB5-BA9C-11B08C9F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7600" y="1905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842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7600" y="40842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0CED-AC57-4115-B126-B42601CE7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360" y="19051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7880" y="19051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842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360" y="40842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7880" y="40842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AA2E-23FE-4A7A-B365-1488CCDDD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1100-0EF7-4ACB-A190-CD7BCA8D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6EAE-C711-4230-AA70-1436BD69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FDA7-CC45-4995-916B-450327EB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90512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137C-C461-49FA-913B-118E248A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F503-C001-4F9F-B0D6-6202F462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174B-8065-4BD5-8462-8C710C84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90512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842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0EF1-EF62-4C69-9390-13A1ADCF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DE7F-4AFE-47C3-9711-2039070F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905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842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3C4F-7287-49A9-890A-8B52F776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905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8420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6007-AE9A-4CCE-A686-22B3BFF3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8420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7773-E75D-4D38-AE6D-191111C7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905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842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842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8467-094C-4431-BE08-6E809FAC7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9051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9051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842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842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842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D53E-7C93-43CB-A8F3-298B7E740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C38A-6AD1-4B36-A1B2-7AA0C52F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90512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8BE4-0162-4ADD-9DBD-92481CA9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4E69-FA3D-4D41-955C-050C4E33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B0EB-0E70-4696-B340-58F467A8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90512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842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5841-F9E5-4CCD-BEEA-82DFC0F4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905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7600" y="40842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8032-BB14-4D7E-8D44-C6182199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600" y="1905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8420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F263-F8F7-4FC9-9304-FC10B25A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6868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6868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2FE5-EBA0-4686-98E2-766CC9F15638}" type="slidenum">
              <a:rPr b="0" lang="en-US" sz="1400" spc="-1" strike="noStrike">
                <a:solidFill>
                  <a:srgbClr val="39393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086600" y="6095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C2AE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E4F3-E3AD-485C-8FB5-0793405FCC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time Postal Opera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ewgraph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SB </a:t>
            </a: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Responsibilit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command and control for postal compan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ist postal commanders with life support for postal plato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orporate postal HQ in deployment pla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VISION G1 </a:t>
            </a: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Responsibilit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staff responsibility for all mail (except official) for the divi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 as liaison between the division and the postal services plato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ot check mail operations for standards of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ordinate transportation of mail from postal services platoon to the MDP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RSONNEL GROUP </a:t>
            </a: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Responsibilit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lnSpc>
                <a:spcPct val="70000"/>
              </a:lnSpc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e post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70000"/>
              </a:lnSpc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est the MACOM activate postal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70000"/>
              </a:lnSpc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MMT lo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70000"/>
              </a:lnSpc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postal operations in a contingency the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70000"/>
              </a:lnSpc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ordinate transportation of mail from postal operations platoon to postal service plato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ATER PERSCO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65000"/>
              </a:lnSpc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operation of MM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6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65000"/>
              </a:lnSpc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e locator/redirect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6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65000"/>
              </a:lnSpc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blish theater mail poli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6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65000"/>
              </a:lnSpc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unit mail routing  information to Joint Military Postal Agency (JMP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6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65000"/>
              </a:lnSpc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s postal operations in a mature the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IL FLOW FROM GATEWAY TO AMT/MM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"/>
          <p:cNvSpPr/>
          <p:nvPr/>
        </p:nvSpPr>
        <p:spPr>
          <a:xfrm>
            <a:off x="1530360" y="2362320"/>
            <a:ext cx="585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983880" y="2368440"/>
            <a:ext cx="546120" cy="15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0800" y="399420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18840" y="5518080"/>
            <a:ext cx="1496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T/M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224120" y="6356520"/>
            <a:ext cx="690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757280" y="3308400"/>
            <a:ext cx="719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758000" y="2135160"/>
            <a:ext cx="717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62120" y="1525680"/>
            <a:ext cx="50245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-Class, Priority , SAM*, PAL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-Class MOM, Fourth-Class M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90680" y="2338560"/>
            <a:ext cx="928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81440" y="4573440"/>
            <a:ext cx="21002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2160" y="5106960"/>
            <a:ext cx="5635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-Class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-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Fourth-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6840" y="4349880"/>
            <a:ext cx="36828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78080" y="5029200"/>
            <a:ext cx="532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9600" y="6005520"/>
            <a:ext cx="5428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AL Not Applicable to official 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11840" y="5035680"/>
            <a:ext cx="36828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45360" y="5721480"/>
            <a:ext cx="21600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8229600" y="3651120"/>
            <a:ext cx="0" cy="184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8153280" y="2431800"/>
            <a:ext cx="0" cy="92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21680" y="2368440"/>
            <a:ext cx="520560" cy="311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MILITARY GATEWAYS / JMP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353960" y="2125800"/>
          <a:ext cx="6559560" cy="37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3960" y="2125800"/>
                    <a:ext cx="6559560" cy="37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980280" y="2550960"/>
            <a:ext cx="871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t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77400" y="3994200"/>
            <a:ext cx="1618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n Fran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18280" y="3084480"/>
            <a:ext cx="1030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c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03000" y="2779560"/>
            <a:ext cx="1252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Y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11040" y="3765600"/>
            <a:ext cx="1414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shing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78600" y="4680000"/>
            <a:ext cx="1440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cksonvi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51800" y="5594400"/>
            <a:ext cx="858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MOVEMENT OF MAIL (CONUS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lbox to gate w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68686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class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68686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600 miles - fl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68686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600 miles - truck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68686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ther mail is truck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teway to MM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68686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Class and MOM - flown (US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68686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ther mail - shipped (US register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USPS </a:t>
            </a:r>
            <a:r>
              <a:rPr b="1" i="1" lang="en-US" sz="4000" spc="-1" strike="noStrike">
                <a:solidFill>
                  <a:srgbClr val="000000"/>
                </a:solidFill>
                <a:latin typeface="Arial Black"/>
              </a:rPr>
              <a:t>Responsibilit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 postal operations on CONUS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e mail to gatew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rt to nine digit addr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 retrograde mail within the 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JMPA </a:t>
            </a: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Responsibilit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 as single POC with USPS at gatew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ordinate mail routing scheme changes wi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 movement of mail from CONUS gateways to theater of op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ordinate mail terminals or sea 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Military Postal Service Agency (MPSA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00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djutant General is the executive mail manager for MPSA and is therefore the functional proponent for all postal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75000"/>
              </a:lnSpc>
              <a:spcBef>
                <a:spcPts val="700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d by an Army, Air Force, or Marine  colonel or a Navy Capt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75000"/>
              </a:lnSpc>
              <a:spcBef>
                <a:spcPts val="700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the Hoffman building in Alexandria, 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75000"/>
              </a:lnSpc>
              <a:spcBef>
                <a:spcPts val="700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two JMPA’s, one in New York and one in San Francisc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rminal Learning Objectives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78840" cy="46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TION: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the completion of this lesson you will be familiar with wartime postal opera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DITIONS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iven access to FM 12-6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D 4526.6M Vol II and AR 600-8-3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NDARDS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 Identified the responsibilities of key postal activit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  Identified the mail flow from a CONUS post office to a soldier i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theater of opera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  Identified the location of postal units on the battlefiel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PSA </a:t>
            </a: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Responsibilit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 policies and procedures for the Military Postal Service (M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DoD POC with USPS on policy and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contingency APO’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ordinate initial mail routing schemes with the Joint Military Postal Activity (JMP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COM </a:t>
            </a: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Responsibilit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ordinate Reserve Component act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est Contingency Army Post Office (CAPO's) from MP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MILITARY ADDR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5000"/>
              </a:lnSpc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O” Army Post Office (facilit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PO” Military Post Office (facilit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PO” Contingency Army Post Office (uni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ove are used to sort mail to pin point lo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ROUTING SCHEM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5000"/>
              </a:lnSpc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APO’s, MPO’s, and CAPO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e mail from gateways to operations platoon to service platoon to briga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ected by task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75440" y="630360"/>
            <a:ext cx="45856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OSTAL MAIL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2292480"/>
            <a:ext cx="0" cy="417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7360" y="228600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80280" y="2138400"/>
            <a:ext cx="766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O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82640" y="22860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38040" y="213840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87760" y="228600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19360" y="2138400"/>
            <a:ext cx="47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21480" y="2286000"/>
            <a:ext cx="1892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29400" y="213840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78880" y="228600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534520" y="2292480"/>
            <a:ext cx="0" cy="417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2292480"/>
            <a:ext cx="0" cy="280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419720" y="2292480"/>
            <a:ext cx="0" cy="280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629400" y="2292480"/>
            <a:ext cx="0" cy="280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" y="647712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80280" y="6324480"/>
            <a:ext cx="766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O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82640" y="647712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38040" y="632448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87760" y="647712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19360" y="6324480"/>
            <a:ext cx="47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21480" y="6477120"/>
            <a:ext cx="1892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529400" y="632448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778880" y="647712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99960" y="5105520"/>
            <a:ext cx="3276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257360" y="5105520"/>
            <a:ext cx="327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462360" y="510552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62320" y="58737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19720" y="564516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629400" y="54165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15960" y="2444760"/>
            <a:ext cx="90180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39640" y="3587760"/>
            <a:ext cx="113040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96840" y="4502160"/>
            <a:ext cx="113040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5960" y="5492880"/>
            <a:ext cx="90180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901960" y="5340240"/>
            <a:ext cx="90180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978280" y="3359160"/>
            <a:ext cx="90144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035680" y="5111640"/>
            <a:ext cx="90144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9040" y="4654440"/>
            <a:ext cx="90180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0480" y="2490840"/>
            <a:ext cx="9676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4160" y="5533920"/>
            <a:ext cx="10058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75720" y="3605040"/>
            <a:ext cx="852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133280" y="4519440"/>
            <a:ext cx="896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ST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V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961720" y="3376440"/>
            <a:ext cx="852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85760" y="5357880"/>
            <a:ext cx="896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ST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V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014440" y="5129280"/>
            <a:ext cx="896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ST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V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148160" y="4672080"/>
            <a:ext cx="896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ST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V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04680" y="2779560"/>
            <a:ext cx="7531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285560" y="3689280"/>
            <a:ext cx="7531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38040" y="2550960"/>
            <a:ext cx="7531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962080" y="4527720"/>
            <a:ext cx="7531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090760" y="4299120"/>
            <a:ext cx="7531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300800" y="3841920"/>
            <a:ext cx="7531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682040" y="365760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605720" y="579132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441440" y="3587760"/>
            <a:ext cx="241200" cy="596880"/>
            <a:chOff x="1441440" y="3587760"/>
            <a:chExt cx="241200" cy="596880"/>
          </a:xfrm>
        </p:grpSpPr>
        <p:sp>
          <p:nvSpPr>
            <p:cNvPr id="349" name=""/>
            <p:cNvSpPr/>
            <p:nvPr/>
          </p:nvSpPr>
          <p:spPr>
            <a:xfrm flipH="1">
              <a:off x="1441440" y="3587760"/>
              <a:ext cx="24120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454040" y="3892680"/>
              <a:ext cx="21600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898640" y="4502160"/>
            <a:ext cx="241200" cy="596880"/>
            <a:chOff x="1898640" y="4502160"/>
            <a:chExt cx="241200" cy="596880"/>
          </a:xfrm>
        </p:grpSpPr>
        <p:sp>
          <p:nvSpPr>
            <p:cNvPr id="352" name=""/>
            <p:cNvSpPr/>
            <p:nvPr/>
          </p:nvSpPr>
          <p:spPr>
            <a:xfrm flipH="1">
              <a:off x="1898640" y="4502160"/>
              <a:ext cx="24120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911240" y="4807080"/>
              <a:ext cx="21600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575160" y="5340240"/>
            <a:ext cx="241200" cy="596880"/>
            <a:chOff x="3575160" y="5340240"/>
            <a:chExt cx="241200" cy="596880"/>
          </a:xfrm>
        </p:grpSpPr>
        <p:sp>
          <p:nvSpPr>
            <p:cNvPr id="355" name=""/>
            <p:cNvSpPr/>
            <p:nvPr/>
          </p:nvSpPr>
          <p:spPr>
            <a:xfrm flipH="1">
              <a:off x="3575160" y="5340240"/>
              <a:ext cx="24120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587760" y="5645160"/>
              <a:ext cx="21600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3650760" y="3359160"/>
            <a:ext cx="241560" cy="596880"/>
            <a:chOff x="3650760" y="3359160"/>
            <a:chExt cx="241560" cy="596880"/>
          </a:xfrm>
        </p:grpSpPr>
        <p:sp>
          <p:nvSpPr>
            <p:cNvPr id="358" name=""/>
            <p:cNvSpPr/>
            <p:nvPr/>
          </p:nvSpPr>
          <p:spPr>
            <a:xfrm flipH="1">
              <a:off x="3650760" y="3359160"/>
              <a:ext cx="24156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64080" y="3664080"/>
              <a:ext cx="21564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708160" y="5111640"/>
            <a:ext cx="241560" cy="596880"/>
            <a:chOff x="5708160" y="5111640"/>
            <a:chExt cx="241560" cy="596880"/>
          </a:xfrm>
        </p:grpSpPr>
        <p:sp>
          <p:nvSpPr>
            <p:cNvPr id="361" name=""/>
            <p:cNvSpPr/>
            <p:nvPr/>
          </p:nvSpPr>
          <p:spPr>
            <a:xfrm flipH="1">
              <a:off x="5708160" y="5111640"/>
              <a:ext cx="24156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721480" y="5416560"/>
              <a:ext cx="21564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7842240" y="4654440"/>
            <a:ext cx="241200" cy="596880"/>
            <a:chOff x="7842240" y="4654440"/>
            <a:chExt cx="241200" cy="596880"/>
          </a:xfrm>
        </p:grpSpPr>
        <p:sp>
          <p:nvSpPr>
            <p:cNvPr id="364" name=""/>
            <p:cNvSpPr/>
            <p:nvPr/>
          </p:nvSpPr>
          <p:spPr>
            <a:xfrm flipH="1">
              <a:off x="7842240" y="4654440"/>
              <a:ext cx="24120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854840" y="4959360"/>
              <a:ext cx="21600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39640" y="3587760"/>
            <a:ext cx="21600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539640" y="3879720"/>
            <a:ext cx="21600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96840" y="4502160"/>
            <a:ext cx="21600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996840" y="4794120"/>
            <a:ext cx="21600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92280" y="3130560"/>
            <a:ext cx="63360" cy="368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685800" y="4336560"/>
            <a:ext cx="0" cy="1079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149480" y="4273560"/>
            <a:ext cx="63360" cy="139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835280" y="3650760"/>
            <a:ext cx="1054080" cy="165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835280" y="4197240"/>
            <a:ext cx="977760" cy="978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733920" y="4044960"/>
            <a:ext cx="0" cy="1130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58960" y="3968640"/>
            <a:ext cx="5245200" cy="673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063880" y="4121280"/>
            <a:ext cx="2882880" cy="977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6102360" y="4946760"/>
            <a:ext cx="977760" cy="164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92680" y="4044960"/>
            <a:ext cx="1206360" cy="901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7626240" y="3955680"/>
            <a:ext cx="139680" cy="469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702560" y="5416560"/>
            <a:ext cx="216000" cy="291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MAIL PRIORIT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5000"/>
              </a:lnSpc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official registered mail including classified up to secre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other accountable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other mai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ove applies to inbound and outboun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SUALTY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beled by mail cler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ce platoon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868686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bel “search”, “hospital search”, “patient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platoon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y is a synchronized system between the units, postal units, PSB, Personnel Group, and Theater PERSCOM to prevent the premature release of casualty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963440" y="554040"/>
            <a:ext cx="55018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ASUALTY MAIL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2292480"/>
            <a:ext cx="0" cy="417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5960" y="228600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208880" y="2138400"/>
            <a:ext cx="766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O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87560" y="22860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66640" y="213840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16360" y="228600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547960" y="2138400"/>
            <a:ext cx="47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950080" y="2286000"/>
            <a:ext cx="1892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758000" y="213840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007480" y="228600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763120" y="2292480"/>
            <a:ext cx="0" cy="417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90920" y="2292480"/>
            <a:ext cx="0" cy="280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648320" y="2292480"/>
            <a:ext cx="0" cy="280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0" y="2292480"/>
            <a:ext cx="0" cy="280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15960" y="647712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208880" y="6324480"/>
            <a:ext cx="766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O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911240" y="647712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66640" y="632448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16360" y="647712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547960" y="6324480"/>
            <a:ext cx="47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50080" y="6477120"/>
            <a:ext cx="1892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758000" y="632448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007480" y="647712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428560" y="5105520"/>
            <a:ext cx="3276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81280" y="5105520"/>
            <a:ext cx="327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690960" y="510552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590920" y="58737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48320" y="564516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858000" y="54165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68240" y="4044960"/>
            <a:ext cx="113040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149480" y="5187960"/>
            <a:ext cx="113004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30560" y="5340240"/>
            <a:ext cx="90180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206880" y="3892680"/>
            <a:ext cx="90144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264280" y="5111640"/>
            <a:ext cx="90144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97640" y="4654440"/>
            <a:ext cx="90180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904320" y="4062240"/>
            <a:ext cx="852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285560" y="5205240"/>
            <a:ext cx="896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ST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V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90320" y="3909960"/>
            <a:ext cx="852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14360" y="5357880"/>
            <a:ext cx="896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ST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V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243040" y="5129280"/>
            <a:ext cx="896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ST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V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376760" y="4672080"/>
            <a:ext cx="896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ST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V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980640" y="3232080"/>
            <a:ext cx="7531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361880" y="4375080"/>
            <a:ext cx="7531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66640" y="3079800"/>
            <a:ext cx="7531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90680" y="4527720"/>
            <a:ext cx="7531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319360" y="4299120"/>
            <a:ext cx="7531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529400" y="3841920"/>
            <a:ext cx="7531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910640" y="365760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834320" y="579132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1670040" y="4044960"/>
            <a:ext cx="241200" cy="596880"/>
            <a:chOff x="1670040" y="4044960"/>
            <a:chExt cx="241200" cy="596880"/>
          </a:xfrm>
        </p:grpSpPr>
        <p:sp>
          <p:nvSpPr>
            <p:cNvPr id="455" name=""/>
            <p:cNvSpPr/>
            <p:nvPr/>
          </p:nvSpPr>
          <p:spPr>
            <a:xfrm flipH="1">
              <a:off x="1670040" y="4044960"/>
              <a:ext cx="24120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682640" y="4349880"/>
              <a:ext cx="21600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2050560" y="5187960"/>
            <a:ext cx="241560" cy="596880"/>
            <a:chOff x="2050560" y="5187960"/>
            <a:chExt cx="241560" cy="596880"/>
          </a:xfrm>
        </p:grpSpPr>
        <p:sp>
          <p:nvSpPr>
            <p:cNvPr id="458" name=""/>
            <p:cNvSpPr/>
            <p:nvPr/>
          </p:nvSpPr>
          <p:spPr>
            <a:xfrm flipH="1">
              <a:off x="2050560" y="5187960"/>
              <a:ext cx="24156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063880" y="5492880"/>
              <a:ext cx="21564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3803760" y="5340240"/>
            <a:ext cx="241200" cy="596880"/>
            <a:chOff x="3803760" y="5340240"/>
            <a:chExt cx="241200" cy="596880"/>
          </a:xfrm>
        </p:grpSpPr>
        <p:sp>
          <p:nvSpPr>
            <p:cNvPr id="461" name=""/>
            <p:cNvSpPr/>
            <p:nvPr/>
          </p:nvSpPr>
          <p:spPr>
            <a:xfrm flipH="1">
              <a:off x="3803760" y="5340240"/>
              <a:ext cx="24120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816360" y="5645160"/>
              <a:ext cx="21600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3879360" y="3892680"/>
            <a:ext cx="241560" cy="596880"/>
            <a:chOff x="3879360" y="3892680"/>
            <a:chExt cx="241560" cy="596880"/>
          </a:xfrm>
        </p:grpSpPr>
        <p:sp>
          <p:nvSpPr>
            <p:cNvPr id="464" name=""/>
            <p:cNvSpPr/>
            <p:nvPr/>
          </p:nvSpPr>
          <p:spPr>
            <a:xfrm flipH="1">
              <a:off x="3879360" y="3892680"/>
              <a:ext cx="24156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892680" y="4197240"/>
              <a:ext cx="21564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5936760" y="5111640"/>
            <a:ext cx="241560" cy="596880"/>
            <a:chOff x="5936760" y="5111640"/>
            <a:chExt cx="241560" cy="596880"/>
          </a:xfrm>
        </p:grpSpPr>
        <p:sp>
          <p:nvSpPr>
            <p:cNvPr id="467" name=""/>
            <p:cNvSpPr/>
            <p:nvPr/>
          </p:nvSpPr>
          <p:spPr>
            <a:xfrm flipH="1">
              <a:off x="5936760" y="5111640"/>
              <a:ext cx="24156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950080" y="5416560"/>
              <a:ext cx="21564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8070840" y="4654440"/>
            <a:ext cx="241200" cy="596880"/>
            <a:chOff x="8070840" y="4654440"/>
            <a:chExt cx="241200" cy="596880"/>
          </a:xfrm>
        </p:grpSpPr>
        <p:sp>
          <p:nvSpPr>
            <p:cNvPr id="470" name=""/>
            <p:cNvSpPr/>
            <p:nvPr/>
          </p:nvSpPr>
          <p:spPr>
            <a:xfrm flipH="1">
              <a:off x="8070840" y="4654440"/>
              <a:ext cx="24120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083440" y="4959360"/>
              <a:ext cx="21600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768240" y="4044960"/>
            <a:ext cx="21600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768240" y="4336920"/>
            <a:ext cx="21600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149480" y="5187960"/>
            <a:ext cx="21564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1149480" y="5479920"/>
            <a:ext cx="21564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25640" y="2673360"/>
            <a:ext cx="444600" cy="520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25640" y="2971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8120" y="28256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971800" y="29019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124080" y="29019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44560" y="2597040"/>
            <a:ext cx="444600" cy="520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44560" y="28954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66680" y="27496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990720" y="28256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143000" y="28256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197240" y="4197240"/>
            <a:ext cx="303552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21280" y="4502160"/>
            <a:ext cx="1054080" cy="520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740040" y="4578480"/>
            <a:ext cx="13968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3117960" y="4654440"/>
            <a:ext cx="164880" cy="596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 flipV="1">
            <a:off x="3117600" y="3269880"/>
            <a:ext cx="88920" cy="54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 flipV="1">
            <a:off x="1441440" y="2965320"/>
            <a:ext cx="1689120" cy="9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1821960" y="3130560"/>
            <a:ext cx="1003320" cy="74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990720" y="3193920"/>
            <a:ext cx="0" cy="77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 flipV="1">
            <a:off x="1974960" y="4794120"/>
            <a:ext cx="24120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7918560" y="3968640"/>
            <a:ext cx="24120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flipV="1">
            <a:off x="7994520" y="5403600"/>
            <a:ext cx="317520" cy="393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-32400" y="3460680"/>
            <a:ext cx="37944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450360" y="4343400"/>
            <a:ext cx="241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SCELLANEOU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por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g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S/DS LESSONS LEARNE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 postal elements ear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 MHE and MTO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ordinate with USPS to sort zip + 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 more flexible postal compan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vels of Postal Operations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CONUS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GATEWAY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MM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PSA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  JMPA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POP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USP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ACOM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 HQ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RPS/THT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V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B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N/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OP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 PSP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DP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        Cler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SP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314000" y="2103480"/>
            <a:ext cx="622728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POSTAL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STAL SERVICES PLATOON (PSP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SSION: provide direct mail service in an area of responsibility for up to 6,000 soldi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868686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processing/operation s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868686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al finance s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TION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868686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B, BSA, MM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STAL SERVICES PLATOON </a:t>
            </a: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Responsibilit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accountable mail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postal finance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 mail to organiz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postal services to organiz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STAL OPERATIONS PLATOON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SSION: provide general postal services for up to 36,000 soldi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868686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processing/operations s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868686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ory service s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868686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jor theater mail recep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868686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M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STAL OPERATIONS PLATOON </a:t>
            </a: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Responsibilit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eive mail at points of ent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rect EPW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central directory service for individuals and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irect casualty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rect/Redirect intra-theater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STAL COMPANY HQ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SSION: to provide command and control for two to six postal plato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TION: PS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STAL COMPANY </a:t>
            </a: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Responsibilit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and and control of postal plato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policy and dir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liaison between operations platoons and services plato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ount for stamp stock, conduct audits, and remit fu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11T16:45:44Z</dcterms:created>
  <dc:creator>SSI, AG SCHOOL</dc:creator>
  <dc:description/>
  <dc:language>en-US</dc:language>
  <cp:lastModifiedBy>Administrator</cp:lastModifiedBy>
  <cp:lastPrinted>1999-01-21T19:42:34Z</cp:lastPrinted>
  <dcterms:modified xsi:type="dcterms:W3CDTF">2005-07-08T12:13:09Z</dcterms:modified>
  <cp:revision>1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S:\TD\Tdd\ANCOC\75H CTDF\ANNEX C\CCC5HE03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